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7360-6D3E-43AE-A4AB-6871315FB7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4871-D455-47B9-9FAF-3BCE2955CE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A97-C118-4D31-B1B1-10FB8220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0D3-5D9F-452B-802B-F054AFA7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218-A8F0-4ACD-A23F-4DF3E877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7CE-5FEB-4A70-850E-D9E9FE79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2DD2-6BDE-4421-BC04-A4EB4424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393C-A631-4358-AAE8-DE1412C2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735F-6C52-4F04-A5EC-41D25CC5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78AE-4565-4A86-A243-1DF09B3D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DAF-F73C-44D2-BBD5-EAC76EA2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B508-F01D-43EF-BB32-84E9EDDB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FE76-0D63-4746-B4B5-AA067FD2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CD1-6C73-4C51-AEEF-31EDEC5E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5523-0B41-49EA-B1D8-84566162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A2FC-BDFC-4576-83A4-F99A7951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59AB-46E2-48E7-901D-4BE97DCB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3D08-5DD2-4A1A-8AC6-05D61DAC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C3F-CD93-48D1-85C0-79C6A179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5E3-5F93-40C1-A373-2D57B17E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92D-DC75-410A-8763-5C529CAB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845-F98E-4F76-9E8B-8BD09D7E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3BD-EBEB-4FF8-9478-7376141E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874-B022-49D8-8237-BB209BD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719-1ABA-4591-94F2-E6DC00D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6EE-CBE6-408B-9D46-2A07388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365F-5F3D-4F84-875F-48247DA73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DE24-45D1-41F1-A8D6-194636A2440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ab N°3</a:t>
            </a:r>
            <a:br>
              <a:rPr sz="4400"/>
            </a:br>
            <a:r>
              <a:rPr b="0" i="1" lang="fr-FR" sz="3600" spc="-1" strike="noStrike">
                <a:solidFill>
                  <a:srgbClr val="333399"/>
                </a:solidFill>
                <a:latin typeface="Tahoma"/>
              </a:rPr>
              <a:t>Design for Testabi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ecify the signals that are controlling the scan cha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|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st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st_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st_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st_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880C-4F88-4725-BA65-586082E07BD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4880" y="2017800"/>
            <a:ext cx="897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_dft_signal -view exist -type ScanClock -timing {45 55} -port &lt; clk 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_dft_signal -view exist -type Reset -active_state 0 –port    &lt; reset 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_dft_signal -view spec -type Constant -active_state  1 -port  &lt; test mode 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_dft_signal -view spec -type ScanDataIn -port &lt; test si 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_dft_signal -view spec -type ScanDataOut -port &lt; test so 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_dft_signal -view spec -type ScanEnable –port &lt; test se 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717E-3FAF-418F-8CAF-6B806AB18BE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ate the test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eate_test_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d the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ft_d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eview_d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ert_d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isualize the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ort_scan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58D9-0E10-4BD3-93E5-258E0036A5D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ave the test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rite_test_protocol -o &lt; file.spf 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ave the modify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rite -format verilog -hierarchy –output    &lt; ckt.v 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CB1-20FC-4589-AD3A-A2DC6207910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est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Tetramax to check if the test protocol and the circuit with the scan chain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nerate test vectors and save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CEEB-57D2-4291-B5EE-039CC481322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alise the full synthesis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rt from an existing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the synthesis tool « Design Compiler » from eSynops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the test tool test « Tetramax » from Synops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09C7-E671-4592-8DA2-4751FD18DB7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8-bit fil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osed of an adder and two 8-bit regi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urce fille in the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/VHD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DA40-430F-4271-9083-DFD257C8FC0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yn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ol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dc_shell-xg-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(Design Compiler from Synops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cessary scripts are available in the direc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/Syn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synopsys_dc.set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nthese_dc_shell.sc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8BDD-A65B-4D7D-83A9-A3F7C6F211F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Tetramax to generate test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ment and analyse the obtained results in terms of testable and non-testable fa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arer le TC avec et sans S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0896-5DC3-457E-AEDB-5A2EFEFB2D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f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dify the circuit by adding physically the scan pat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the tool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c_shell-xg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DFC7-9E5B-4764-B2FE-FDEC51DA241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ad the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ad_verilog &lt;ckt.v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ecify the top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rrent_design &lt;top module 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48E8-F76D-4BF1-850F-E3664F92686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5640" y="2017800"/>
            <a:ext cx="873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ecify the type of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F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 test_default_scan_style multiplexed_flip_fl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mber of scan ch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_scan_configuration -chain_count &lt;n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A95C-AB95-4E41-9D5A-DDBC2BBC75D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4880" y="2017800"/>
            <a:ext cx="897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test input/outp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_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_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_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_port &lt;name&gt; -direction &lt;in | out | inou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8C42-A226-4C54-8B28-5ABCB55A5B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6:16:55Z</dcterms:created>
  <dc:creator>Arnaud Virazel</dc:creator>
  <dc:description/>
  <dc:language>en-US</dc:language>
  <cp:lastModifiedBy>Arnaud Virazel</cp:lastModifiedBy>
  <dcterms:modified xsi:type="dcterms:W3CDTF">2022-11-09T11:01:57Z</dcterms:modified>
  <cp:revision>114</cp:revision>
  <dc:subject/>
  <dc:title>LE GRAFC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